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D0FD-1069-4163-BBEA-93B9151A1C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6A21-84B1-465E-990F-16B075E9E3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E0B6-DA70-4A10-B291-E346EDDD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71F-F635-4AEA-87FE-E59A028B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536C-088A-4668-9090-B2B8B3B0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15B-2D2F-4531-B6E2-A2323CDA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AC08-4328-44CD-A34D-0EA62066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6636-8743-4994-9912-8FBA28C5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43C3-0673-4DE0-AFC0-14C2CE4B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C0C2-F011-427A-AC5C-48A12F1C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EC23-2D1E-411A-A28F-E898326D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9634-2780-440E-8046-EBBB73DA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EADC-9116-4511-AF5A-789692B7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0093-1FF0-4D6F-8C81-72456FF6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18CA-8573-4B9F-BB1F-AB354A44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D375-99AB-4A90-B78F-1CCD8FC7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DB15-84E4-4CF1-9202-2E436710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B4EE-2B2C-498A-9882-53DDF59F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3BE2-14A4-4FEE-A350-C3F05938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388-A7FF-4EFE-A4F3-FBEF035B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D26-39F6-4040-8B05-AFDEEF22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FF0-E66A-4B39-B56B-5D6BE310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5EC-67ED-4CF3-BE80-078DD847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D70-BF7A-45D9-8A8F-09BF7FB1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D4AD-DDB2-437D-B5F8-E14B07B3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CF2-6537-411B-9494-5091677A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Picture 4" descr="CITBANND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9A50-EDEF-4920-99D8-5233F4BB49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Picture 5" descr="CITBANND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6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8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Group 9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10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Oval 11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Oval 12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Oval 13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6BA2-4AE6-4DD9-A5E0-7A76CA8DA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rançais 3 – Unité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n appéti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çon A – Les ali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otre ami veut vous impressionner avec un repas traditionnel frança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alheureusement, son menu n’est pas dans le bon ord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lors, récrivez son menu selon un repas traditionn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ussi, écrivez la catégorie en haut du plat (i.e. l’entré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e repas mélangé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63b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salade ve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63b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carottes râpé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63b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coq au v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63b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mousse au chocol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63b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Camembert, la Gruyère, et le fromage de chèv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e repas mélangé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63b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s carottes râp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822d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’entré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63b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 coq au v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822d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 plat princi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63b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ne salade ve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822d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 sal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63b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 Camembert, la Gruyère, et le fromage de chèv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822d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 plateau de fro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63b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mousse au chocol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822d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 dess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4-01-09T15:12:32Z</dcterms:modified>
  <cp:revision>95</cp:revision>
  <dc:subject/>
  <dc:title>Allez, viens! – Level 2</dc:title>
</cp:coreProperties>
</file>